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082-8A4B-43FA-B41F-567D8DD7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C4D-EF40-4669-9F15-D1916DA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27F-4D55-4FBF-808F-8BE848A0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630-2F06-4177-9499-569B638F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89E-F61C-4F69-A483-41D74A2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9D6-0E4C-4BFD-8389-0B2391E1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28B-B1E3-47A5-90F7-A8E5648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577-3643-4929-9B73-FD17953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B4F-2FF9-41F6-83BA-716B304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F94-369F-429C-BAEA-CFCCBFC0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A64-2E2B-4088-87FE-20D76F8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FA1-AD5A-4F2E-A2EB-97950A4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3D7-43D7-48A2-BE90-A8E69E96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Guys &amp; Girls view Optical Illusions Diffe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girls view optical illusions differently than gu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I was little, I’ve noticed that guys &amp; girls view things differently &amp; never seem to notice the exact same things at the same time. So this year I wanted to test to see if there was a difference between the way that guys &amp; girls se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optical il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 testers (2 girls, 2 gu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choosers (to decide which picture is more obvious to see in the illu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&amp; 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y will see the pictures in different ways &amp; notice the different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around to each chooser &amp; ask them to tell you what they see (this will help with grading everyone else because which ever object is seen the most often is the most often see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one person at a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them only one picture at a time and ask them what’s the first thing they see &amp; write down what they say (for pictures with multiple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Different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turned out to be right; girls tend to see the more obvious solution in the way that they se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b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bbb4"/>
                </a:solidFill>
                <a:uFillTx/>
                <a:latin typeface="Arial"/>
              </a:rPr>
              <a:t>http://library.thinkquest.org/J0112786/illus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http://www.123opticalillusio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www.echalk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http://library.thinkquest.org/J0112786/illus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12:21Z</dcterms:created>
  <dc:creator>STERLING USD376</dc:creator>
  <dc:description/>
  <dc:language>en-US</dc:language>
  <cp:lastModifiedBy>USD376</cp:lastModifiedBy>
  <dcterms:modified xsi:type="dcterms:W3CDTF">2011-03-11T15:33:18Z</dcterms:modified>
  <cp:revision>6</cp:revision>
  <dc:subject/>
  <dc:title>PowerPoint Presentation</dc:title>
</cp:coreProperties>
</file>